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302-A2F8-4B44-A0B1-346C587E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DCF-12E3-4EB7-9BF8-DEFCD545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064-1C66-4A92-B82C-ED1F4E47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24A-D5C6-47B9-891F-D0D91F57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1F2-5667-4574-8CFE-3BBA05C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67F-C8FB-4754-872D-00A03CC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51B-E47F-4CE8-A526-548A0024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C0D-385B-4629-BC89-283C7F38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4FE-117E-4D56-B16A-D0F2E59B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D6C-B7AF-463D-A9C7-ACFDAC9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D17-1C2B-4F14-BACC-AE094F7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ADB-35F4-4FE2-A413-2CE7CC6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F2E-E425-446F-A992-0D8E5A3A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3440" y="-20520"/>
            <a:ext cx="63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9999"/>
                </a:solidFill>
                <a:latin typeface="comic"/>
              </a:rPr>
              <a:t>6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Чадо Мое, ел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бе - обременения - 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те успокоя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милия Исус блажен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ойдох, какъвто бя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паднал, слаб и уморен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исти ме от гря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1054080"/>
            <a:ext cx="3753000" cy="43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92640" y="168120"/>
            <a:ext cx="700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Виж живата вод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ром ти давам - пий! Тогаз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бъдеш жив всегда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при Исуса приближих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лаб, жаден, колеблив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 живия Източник пи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ега с Христа съм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9520" y="96840"/>
            <a:ext cx="7122600" cy="4483080"/>
          </a:xfrm>
          <a:prstGeom prst="rect">
            <a:avLst/>
          </a:prstGeom>
          <a:gradFill rotWithShape="0">
            <a:gsLst>
              <a:gs pos="0">
                <a:srgbClr val="ffffcc">
                  <a:alpha val="40000"/>
                </a:srgbClr>
              </a:gs>
              <a:gs pos="100000">
                <a:srgbClr val="75755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"Към Мене погледни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На правдата съм Слънце Аз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ела и се спаси!"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Аз към Исуса погледнах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Той ми стана звезда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Веч ходя в Божи светъл път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към дома, към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9:37Z</dcterms:created>
  <dc:creator>TrifonTrifonow</dc:creator>
  <dc:description/>
  <dc:language>en-US</dc:language>
  <cp:lastModifiedBy>TrifonTrifonow</cp:lastModifiedBy>
  <dcterms:modified xsi:type="dcterms:W3CDTF">2005-11-23T18:07:14Z</dcterms:modified>
  <cp:revision>5</cp:revision>
  <dc:subject/>
  <dc:title>Slide 1</dc:title>
</cp:coreProperties>
</file>